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EDA-FC53-4CE7-BBFD-6F1DB190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C12-4388-480E-B453-AF1C0201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320A-1D7F-4D31-8D9A-7F7A811D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076-1394-435B-9AD8-3A489F6A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BCB-209F-4EA6-9300-4DFFE371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2CB-232E-424B-AC89-A7691851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65A-79F0-4947-8940-A0440EF0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F86-BBF9-4291-94A1-55D2BB72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47A-875A-43F2-AE14-9A2A044D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DC2C-EBCF-45EC-A85D-1C479FD5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329-9EE5-49F1-8721-3827BBBB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6FA-6EB7-4AC4-87F1-A2D008F3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C9CB-4FBE-47CC-A09C-4202C144B6A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ép 1" descr="DSC00326.JPG"/>
          <p:cNvPicPr/>
          <p:nvPr/>
        </p:nvPicPr>
        <p:blipFill>
          <a:blip r:embed="rId1"/>
          <a:stretch/>
        </p:blipFill>
        <p:spPr>
          <a:xfrm>
            <a:off x="214200" y="428760"/>
            <a:ext cx="8715600" cy="5946480"/>
          </a:xfrm>
          <a:prstGeom prst="rect">
            <a:avLst/>
          </a:prstGeom>
          <a:ln w="0">
            <a:noFill/>
          </a:ln>
        </p:spPr>
      </p:pic>
      <p:sp>
        <p:nvSpPr>
          <p:cNvPr id="42" name="Téglalap 2"/>
          <p:cNvSpPr/>
          <p:nvPr/>
        </p:nvSpPr>
        <p:spPr>
          <a:xfrm>
            <a:off x="1143000" y="2928960"/>
            <a:ext cx="70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2b10e"/>
                </a:solidFill>
                <a:latin typeface="Constantia"/>
              </a:rPr>
              <a:t>Our Neighbourh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églalap 3"/>
          <p:cNvSpPr/>
          <p:nvPr/>
        </p:nvSpPr>
        <p:spPr>
          <a:xfrm>
            <a:off x="500040" y="3857760"/>
            <a:ext cx="828684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hu-HU" sz="4400" spc="-1" strike="noStrike">
                <a:solidFill>
                  <a:srgbClr val="000000"/>
                </a:solidFill>
                <a:latin typeface="Bodoni MT Condensed"/>
                <a:ea typeface="David"/>
              </a:rPr>
              <a:t>Research on the lo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Eras Medium ITC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Eras Medium ITC"/>
              </a:rPr>
              <a:t>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églalap 4"/>
          <p:cNvSpPr/>
          <p:nvPr/>
        </p:nvSpPr>
        <p:spPr>
          <a:xfrm>
            <a:off x="642960" y="42876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2060"/>
                </a:solidFill>
                <a:latin typeface="Constantia"/>
                <a:ea typeface="Dotum"/>
              </a:rPr>
              <a:t>Szent József Katolikus Általános Is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2060"/>
                </a:solidFill>
                <a:latin typeface="Constantia"/>
                <a:ea typeface="Dotum"/>
              </a:rPr>
              <a:t>Kiskunhalas, Hung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28920"/>
            <a:ext cx="83628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Levegő</a:t>
            </a:r>
            <a:br>
              <a:rPr sz="2400"/>
            </a:br>
            <a:br>
              <a:rPr sz="2400"/>
            </a:b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iskunhalas és környéke,  az egyik nagy tájunk, az Alföld mérsékelten szennyezett levegőjű területeihez sorolható. A legfőbb szennyező-forrás az 53. számú főút, ahol nitrogén-oxidok, szén-dioxid, ólom és illékony szerves anyagok kerülnek a levegőbe, a szálló por koncentrációja pedig megnő. Az utak menti emisszión kívül meg kell említeni a lakosság téli fűtését is, ennek során jelentős mennyiségű kén-dioxid, nitrogén-dioxid és korom kerül a levegőbe.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iskunhalason a Környezetvédelmi Felügyelőség méri az ülepedő por mennyiségét, melynek féléves átlagai jóval kisebbek a határértéknél, a 30 napos időszakokban azonban előfordul, hogy meghaladják az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3296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f7f7f"/>
                </a:solidFill>
                <a:latin typeface="Dotum"/>
                <a:ea typeface="Dotum"/>
              </a:rPr>
              <a:t>Szent József Katolikus Általános Isk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f7f7f"/>
                </a:solidFill>
                <a:latin typeface="Dotum"/>
                <a:ea typeface="Dotum"/>
              </a:rPr>
              <a:t>Kiskunhalas, Hung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124000" y="285840"/>
            <a:ext cx="455292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143000" y="84600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Térkép készítése az iskola környékéről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artalom helye 4" descr="plakát készítés.jpg"/>
          <p:cNvPicPr/>
          <p:nvPr/>
        </p:nvPicPr>
        <p:blipFill>
          <a:blip r:embed="rId1"/>
          <a:stretch/>
        </p:blipFill>
        <p:spPr>
          <a:xfrm>
            <a:off x="1130400" y="1428840"/>
            <a:ext cx="68706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349880" y="12160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unka közbe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artalom helye 6" descr="csoport.jpg"/>
          <p:cNvPicPr/>
          <p:nvPr/>
        </p:nvPicPr>
        <p:blipFill>
          <a:blip r:embed="rId1"/>
          <a:stretch/>
        </p:blipFill>
        <p:spPr>
          <a:xfrm>
            <a:off x="4116240" y="2071800"/>
            <a:ext cx="4719960" cy="3143160"/>
          </a:xfrm>
          <a:prstGeom prst="rect">
            <a:avLst/>
          </a:prstGeom>
          <a:ln w="0">
            <a:noFill/>
          </a:ln>
        </p:spPr>
      </p:pic>
      <p:pic>
        <p:nvPicPr>
          <p:cNvPr id="54" name="Tartalom helye 8" descr="térkép.jpg"/>
          <p:cNvPicPr/>
          <p:nvPr/>
        </p:nvPicPr>
        <p:blipFill>
          <a:blip r:embed="rId2"/>
          <a:stretch/>
        </p:blipFill>
        <p:spPr>
          <a:xfrm>
            <a:off x="500040" y="1500120"/>
            <a:ext cx="3198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539640" y="404640"/>
            <a:ext cx="76536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zuzmók a negatív indikátorok közé tartoznak, jelenlétük arra utal, hogy nincs, vagy nagyon alacsony a SO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oncentráció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zuzmók nagyon érzékenyek a légköri kéndioxid-terhelésre. Lassú növekedésük és folyamatos élettevékenységük miatt télen-nyáron felhalmozzák - akkumulálják magukban a szennyező anyagokat, így szervezetük csekély légköri koncentráció esetén is károsodik, elpuszt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11280" y="2781360"/>
            <a:ext cx="230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További anyagokra érzékenyek: SO2, NOX, ózon, fluorid, növényvédő szer, műtrágya, radioaktív anyag, kló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115080" y="6264360"/>
            <a:ext cx="44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Közönséges sárgazuzmó – Xanthoria parie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Tartalom helye 6" descr="zuzmo.jpg"/>
          <p:cNvPicPr/>
          <p:nvPr/>
        </p:nvPicPr>
        <p:blipFill>
          <a:blip r:embed="rId1"/>
          <a:stretch/>
        </p:blipFill>
        <p:spPr>
          <a:xfrm>
            <a:off x="3168720" y="2643120"/>
            <a:ext cx="5189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928800" y="63180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iskolánk környékén szinte minden fán találtunk zuzmó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artalom helye 4" descr="zuzmós.jpg"/>
          <p:cNvPicPr/>
          <p:nvPr/>
        </p:nvPicPr>
        <p:blipFill>
          <a:blip r:embed="rId1"/>
          <a:stretch/>
        </p:blipFill>
        <p:spPr>
          <a:xfrm>
            <a:off x="1136520" y="1500120"/>
            <a:ext cx="686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643120" y="639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Zuzmó az iskola udvar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artalom helye 4" descr="zuzmó az iskola udvarán.jpg"/>
          <p:cNvPicPr/>
          <p:nvPr/>
        </p:nvPicPr>
        <p:blipFill>
          <a:blip r:embed="rId1"/>
          <a:stretch/>
        </p:blipFill>
        <p:spPr>
          <a:xfrm>
            <a:off x="1166760" y="1500120"/>
            <a:ext cx="7191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20:04:18Z</dcterms:created>
  <dc:creator>Julia</dc:creator>
  <dc:description/>
  <dc:language>en-US</dc:language>
  <cp:lastModifiedBy>Julia</cp:lastModifiedBy>
  <dcterms:modified xsi:type="dcterms:W3CDTF">2010-02-09T20:57:39Z</dcterms:modified>
  <cp:revision>48</cp:revision>
  <dc:subject/>
  <dc:title>1. dia</dc:title>
</cp:coreProperties>
</file>